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5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wmf" ContentType="image/x-wmf"/>
  <Override PartName="/ppt/media/image3.wmf" ContentType="image/x-wmf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7421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428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960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9600" y="936108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F421-499B-4584-94FC-DBB2FB739E8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28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28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aciones social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aciones social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e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es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de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articipación en organiz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Relaciones social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541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58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62pr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cción colecti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66pri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71to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75to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7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ercepciones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3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3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8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87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Ayuda y confi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079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74640" y="4681080"/>
            <a:ext cx="539424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P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CBE6D-7365-464E-9810-F64D67AFA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6DE6-B1BF-4474-89B4-107D052F3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099E-6FA7-4DF6-AAEB-53EB94B8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FEE-9DE3-4D74-BC6D-921F140FD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7379-1013-41CA-B77B-11EBF1239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C74-66DA-4449-A1FD-258ECA46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C5DC-139A-4ECE-8EFD-32507C93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729B-2F4F-46F8-AC0D-CAE5107DB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C71-AC96-4D49-8E5C-35D54BD95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4EF3-0710-48C2-AF95-01BEAEAE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FF9-A981-45C2-82E8-DA3301CAD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8C5-ABDF-4BE4-A01F-0350BE0A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DB70-9C4F-4B79-B69E-BC298FB389F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99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s-MX" sz="3200" spc="-1" strike="noStrike">
                <a:solidFill>
                  <a:srgbClr val="0000cc"/>
                </a:solidFill>
                <a:latin typeface="Arial"/>
              </a:rPr>
              <a:t>Encuesta Nacional </a:t>
            </a:r>
            <a:br>
              <a:rPr sz="3200"/>
            </a:br>
            <a:r>
              <a:rPr b="1" lang="es-MX" sz="3200" spc="-1" strike="noStrike">
                <a:solidFill>
                  <a:srgbClr val="0000cc"/>
                </a:solidFill>
                <a:latin typeface="Arial"/>
              </a:rPr>
              <a:t>sobre Capital Social </a:t>
            </a:r>
            <a:br>
              <a:rPr sz="3200"/>
            </a:br>
            <a:r>
              <a:rPr b="1" lang="es-MX" sz="3200" spc="-1" strike="noStrike">
                <a:solidFill>
                  <a:srgbClr val="0000cc"/>
                </a:solidFill>
                <a:latin typeface="Arial"/>
              </a:rPr>
              <a:t>en el Medio Urbano </a:t>
            </a:r>
            <a:br>
              <a:rPr sz="3200"/>
            </a:br>
            <a:r>
              <a:rPr b="1" lang="es-MX" sz="3200" spc="-1" strike="noStrike">
                <a:solidFill>
                  <a:srgbClr val="0000cc"/>
                </a:solidFill>
                <a:latin typeface="Arial"/>
              </a:rPr>
              <a:t> México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58920" y="5300280"/>
            <a:ext cx="6400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808080"/>
                </a:solidFill>
                <a:latin typeface="Arial"/>
              </a:rPr>
              <a:t>Mayo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12000" y="690480"/>
            <a:ext cx="2617560" cy="976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16000" y="404640"/>
            <a:ext cx="7142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7716960" cy="4797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 falta de recursos impide ayudarse má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042920" y="620640"/>
            <a:ext cx="6924600" cy="4303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539640" y="544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y cuando se ayuda es porque se percibe confianza y apoyo mutu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Relaciones sociales y redes de apoy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Las personas usan sus redes de apoyo para distintos propósitos: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36.9% para pedir prestad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11.3% para buscar emple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10.9% para cuidar a sus hijos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5.3% para hacer algún trámite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619280" y="260280"/>
            <a:ext cx="5257800" cy="25923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257800" cy="2736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9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s personas piden prestado a familiares, pero ayuda para emplearse a amig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539640" y="571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En general, suele recurrirse primeramente a la familia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19280" y="115920"/>
            <a:ext cx="5257800" cy="2687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1619280" y="2852640"/>
            <a:ext cx="52578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3964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y es la familia la primera en proporcionar ayuda, tanto monetaria como no mone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124000" y="2997360"/>
            <a:ext cx="4537080" cy="2601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24000" y="333360"/>
            <a:ext cx="44658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4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Participación en organiz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484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Un bajo número de personas pertenecen a una organización, y la mayoría no contribuye a ellas con tiempo o dinero </a:t>
            </a:r>
            <a:br>
              <a:rPr sz="2800"/>
            </a:b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23.5% pertenece a una organización…</a:t>
            </a: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…de las cuales…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43% ha participado con tiempo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42.7% les ha dado dinero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3680" cy="44848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3964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os principales resultados por participar son sentirse bien, beneficiar a la comunidad en que se vive y mejorar las condiciones de v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1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Bases técnicas y conceptu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39640" y="333360"/>
            <a:ext cx="83743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Las personas que pertenecen a una organización, lo han hecho por largo tiempo, en grupos activos de gran tamaño y por iniciativa propia</a:t>
            </a:r>
            <a:br>
              <a:rPr sz="2800"/>
            </a:br>
            <a:br>
              <a:rPr sz="32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75.3% han pertenecido por más de 10 años a su organización 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68.3% pertenece organizaciones donde predominan miembros activos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48.2% pertenece a organizaciones con más de 40 integrantes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45.9% entró a la organización por decisión volun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908000" y="189000"/>
            <a:ext cx="4824720" cy="2519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8000" y="2781360"/>
            <a:ext cx="4896000" cy="254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9640" y="5516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s personas suelen participar con quienes tienen sus mismas características socioeconómicas pese a sus diferencias polí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332000" y="476280"/>
            <a:ext cx="6781680" cy="42163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En las organizaciones en que se participa los miembros suelen tomar conjuntamente las decisiones o ser consultad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573680" cy="4707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Cuando no se participa en una organización es principalmente porque no se ha invitado a hacer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3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Acción colectiva y asociación con vec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84960" cy="45291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El principal factor de desunión entre las personas son las diferencias educa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539640" y="333360"/>
            <a:ext cx="837432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Pese a las divisiones de las personas:</a:t>
            </a:r>
            <a:br>
              <a:rPr sz="2800"/>
            </a:br>
            <a:br>
              <a:rPr sz="32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17.2% se ha organizado con sus vecinos para solicitar la atención a un problema 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21.7% se ha organizado para resolver uno de los principales problemas de la comunidad</a:t>
            </a:r>
            <a:br>
              <a:rPr sz="2400"/>
            </a:br>
            <a:br>
              <a:rPr sz="2400"/>
            </a:b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63% de quienes habían residido más de un año en la localidad participó en resolver alguno de su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620640"/>
            <a:ext cx="7284960" cy="4529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s personas se organizaron principalmente para atender los problemas de los servicios públ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853320" cy="42591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El tiempo es el principal recurso que aportan las personas para resolver problemas comun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116000" y="549360"/>
            <a:ext cx="7284960" cy="45291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y suelen dedicar un día o menos a el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01216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Bases Estadísticas de la Encuesta</a:t>
            </a:r>
            <a:br>
              <a:rPr sz="28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presentativa a nivel nacional y para las regiones Norte, Centro-Occidente y Sur-Sureste, en las zonas urbana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2100 hogares encuestados, 700 en cada región</a:t>
            </a: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  </a:t>
            </a: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Muestreo estratificado, de conglomerados, polietáp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187280" y="476280"/>
            <a:ext cx="7285320" cy="4529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Cuando no se colabora es porque a cada quien le interesan sólo sus propios proble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5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Percepciones sobre el respeto a los derechos y a la 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340000" y="333360"/>
            <a:ext cx="3973320" cy="2470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68360" y="2852640"/>
            <a:ext cx="4032360" cy="2202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Algunos derechos sociales se creé que sí son cumplid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056720" cy="4384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otros no ta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900000" y="549360"/>
            <a:ext cx="7069320" cy="4394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 ley no se percibe proporcionando igual protección a todo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404640"/>
            <a:ext cx="4262400" cy="22924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4248000" cy="2376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y aunque vale la pena cumplirla y respetar a quien la cumpl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619280" y="620640"/>
            <a:ext cx="6264360" cy="38941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se está dispuesto a violarla si se creé tener la raz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716960" cy="4797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39640" y="5229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En todo caso la acción que más cumplen los ciudadanos es que se puede contar con su ayu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129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Hipótesis a explorar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El capital social en países como México es un sistema de protección que tiene efectos sobre la economía de las personas</a:t>
            </a: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¿Qué tan sistemática es la acción del capital social?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¿A quiénes brinda protección?</a:t>
            </a:r>
            <a:br>
              <a:rPr sz="2400"/>
            </a:br>
            <a:br>
              <a:rPr sz="2400"/>
            </a:br>
            <a:r>
              <a:rPr b="1" lang="es-ES" sz="2000" spc="-1" strike="noStrike">
                <a:solidFill>
                  <a:srgbClr val="0000cc"/>
                </a:solidFill>
                <a:latin typeface="Arial"/>
              </a:rPr>
              <a:t>¿Cómo genera efectos económico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6920" y="691920"/>
            <a:ext cx="7129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Capital Social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Relaciones sociales que permiten resolver problemas compartido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encuesta se propone identificar el acervo, el uso y el rendimiento del capital social</a:t>
            </a: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como un sistema de protección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Incluye un módulo sobre ciudadanía y derechos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01216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Características de la Encuesta</a:t>
            </a:r>
            <a:br>
              <a:rPr sz="2800"/>
            </a:br>
            <a:br>
              <a:rPr sz="1200"/>
            </a:br>
            <a:br>
              <a:rPr sz="1200"/>
            </a:b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196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2374920"/>
          <a:ext cx="3959280" cy="27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2374920"/>
                    <a:ext cx="3959280" cy="27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1187280" y="573408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La ENCASU es consistente con otras encuestas nacionales e inter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8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716360" y="2349360"/>
          <a:ext cx="3699000" cy="273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2349360"/>
                    <a:ext cx="3699000" cy="27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6920" y="907560"/>
            <a:ext cx="71298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Contribución de la encuesta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lang="es-E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La encuesta se distingue de otras por su “enfoque de activos”: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¿Con quiénes se cuenta?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¿Qué tanto se recurre a ellos?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0000cc"/>
                </a:solidFill>
                <a:latin typeface="Arial"/>
              </a:rPr>
              <a:t>¿Con qué resultados?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2.</a:t>
            </a: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3200" spc="-1" strike="noStrike">
                <a:solidFill>
                  <a:srgbClr val="0066ff"/>
                </a:solidFill>
                <a:latin typeface="Arial"/>
              </a:rPr>
              <a:t>Ayuda y confianza en los demá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00000" y="692280"/>
            <a:ext cx="7500960" cy="4662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544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La confianza en las zonas urbanas es menor que el promedio nacional y de América Latina (28% y 22%, Latinobarómetro, 2006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765000"/>
            <a:ext cx="6624720" cy="41180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0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…</a:t>
            </a:r>
            <a:r>
              <a:rPr b="0" lang="es-MX" sz="2400" spc="-1" strike="noStrike">
                <a:solidFill>
                  <a:srgbClr val="0000cc"/>
                </a:solidFill>
                <a:latin typeface="Arial"/>
              </a:rPr>
              <a:t>y se creé que la gente se ayuda menos entre si que an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2:26:54Z</dcterms:created>
  <dc:creator>Ihbenitez</dc:creator>
  <dc:description/>
  <dc:language>en-US</dc:language>
  <cp:lastModifiedBy>Ecalderon</cp:lastModifiedBy>
  <dcterms:modified xsi:type="dcterms:W3CDTF">2007-05-09T15:03:54Z</dcterms:modified>
  <cp:revision>95</cp:revision>
  <dc:subject/>
  <dc:title>Diapositiva 1</dc:title>
</cp:coreProperties>
</file>